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683F-1315-4405-997E-188BFA098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6F6E-1363-4D02-9571-0E583BD4E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50F3-A7F2-4912-A919-DF586DC8A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4BAD-0DEC-4D3C-962D-CFC999B24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6140-4F29-44A5-928F-887EA2E50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0F36-D7FC-4C04-A3D5-6FD1BDD6C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E15C-A8F8-4C11-AFBE-E16547AD4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5875-F822-4967-8AD3-92497006C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C231-624A-4D85-808F-EBBD7970E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1EF1-995F-4B57-8749-3B4FE154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62C4-F898-4221-B62B-5112A312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17C3-0468-4E3C-81E1-A4208EF8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D8407-596A-4999-BFE1-35040DD22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image" Target="../media/image2.jpeg"/><Relationship Id="rId8" Type="http://schemas.openxmlformats.org/officeDocument/2006/relationships/image" Target="../media/image3.jpeg"/><Relationship Id="rId9" Type="http://schemas.openxmlformats.org/officeDocument/2006/relationships/image" Target="../media/image4.jpeg"/><Relationship Id="rId10" Type="http://schemas.openxmlformats.org/officeDocument/2006/relationships/image" Target="../media/image5.png"/><Relationship Id="rId11" Type="http://schemas.openxmlformats.org/officeDocument/2006/relationships/image" Target="../media/image1.png"/><Relationship Id="rId12" Type="http://schemas.openxmlformats.org/officeDocument/2006/relationships/image" Target="../media/image2.jpeg"/><Relationship Id="rId13" Type="http://schemas.openxmlformats.org/officeDocument/2006/relationships/image" Target="../media/image3.jpeg"/><Relationship Id="rId14" Type="http://schemas.openxmlformats.org/officeDocument/2006/relationships/image" Target="../media/image4.jpeg"/><Relationship Id="rId15" Type="http://schemas.openxmlformats.org/officeDocument/2006/relationships/image" Target="../media/image5.png"/><Relationship Id="rId16" Type="http://schemas.openxmlformats.org/officeDocument/2006/relationships/image" Target="../media/image1.png"/><Relationship Id="rId17" Type="http://schemas.openxmlformats.org/officeDocument/2006/relationships/image" Target="../media/image2.jpeg"/><Relationship Id="rId18" Type="http://schemas.openxmlformats.org/officeDocument/2006/relationships/image" Target="../media/image3.jpeg"/><Relationship Id="rId19" Type="http://schemas.openxmlformats.org/officeDocument/2006/relationships/image" Target="../media/image4.jpeg"/><Relationship Id="rId20" Type="http://schemas.openxmlformats.org/officeDocument/2006/relationships/image" Target="../media/image5.png"/><Relationship Id="rId2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60160" y="164880"/>
            <a:ext cx="311148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elcome!!!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Biology Research Club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18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orth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High School</a:t>
            </a:r>
            <a:br>
              <a:rPr sz="18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mic Sans MS"/>
              </a:rPr>
              <a:t>Wichita State University, Biology Department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Comic Sans MS"/>
              </a:rPr>
              <a:t> NSF GK-12 Program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Comic Sans MS"/>
              </a:rPr>
              <a:t>Pass Me The Salt / Pasame La Sal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2200" y="2822400"/>
            <a:ext cx="1820520" cy="529920"/>
            <a:chOff x="322200" y="2822400"/>
            <a:chExt cx="1820520" cy="529920"/>
          </a:xfrm>
        </p:grpSpPr>
        <p:pic>
          <p:nvPicPr>
            <p:cNvPr id="43" name="" descr="thumbnail of small NSF logo in color "/>
            <p:cNvPicPr/>
            <p:nvPr/>
          </p:nvPicPr>
          <p:blipFill>
            <a:blip r:embed="rId1"/>
            <a:stretch/>
          </p:blipFill>
          <p:spPr>
            <a:xfrm>
              <a:off x="746640" y="2822400"/>
              <a:ext cx="397800" cy="52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Black and White WSU Logo"/>
            <p:cNvPicPr/>
            <p:nvPr/>
          </p:nvPicPr>
          <p:blipFill>
            <a:blip r:embed="rId2"/>
            <a:stretch/>
          </p:blipFill>
          <p:spPr>
            <a:xfrm>
              <a:off x="1144800" y="2822400"/>
              <a:ext cx="499680" cy="52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Nhsin.jpg (31396 bytes)"/>
            <p:cNvPicPr/>
            <p:nvPr/>
          </p:nvPicPr>
          <p:blipFill>
            <a:blip r:embed="rId3"/>
            <a:stretch/>
          </p:blipFill>
          <p:spPr>
            <a:xfrm>
              <a:off x="322200" y="2822400"/>
              <a:ext cx="370800" cy="52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logo_300_RGB.jpg"/>
            <p:cNvPicPr/>
            <p:nvPr/>
          </p:nvPicPr>
          <p:blipFill>
            <a:blip r:embed="rId4"/>
            <a:stretch/>
          </p:blipFill>
          <p:spPr>
            <a:xfrm>
              <a:off x="1675080" y="2822400"/>
              <a:ext cx="467640" cy="52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"/>
          <p:cNvSpPr/>
          <p:nvPr/>
        </p:nvSpPr>
        <p:spPr>
          <a:xfrm>
            <a:off x="2184480" y="2576520"/>
            <a:ext cx="2311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NEXT MEETING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Thursday, September 28th 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after school at 3:20 p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Room: F 308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3840" y="1708200"/>
            <a:ext cx="444816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SPONS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Mrs. Hannah Kelderman, Science Teac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Mr. Bill Welch, Science Teac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Mr. Scott Ross, Science Teacher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Mrs. Ingrid Rocio Caton, GK-12 Fellow/WSU Graduate Stud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irsantospinzon@wichita.edu</a:t>
            </a:r>
            <a:br>
              <a:rPr sz="10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3600" y="165240"/>
            <a:ext cx="4478400" cy="3263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169920" y="241200"/>
            <a:ext cx="1441440" cy="1214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460520" y="3505320"/>
            <a:ext cx="3111480" cy="16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elcome!!!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iology Research Club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orth High School</a:t>
            </a:r>
            <a:br>
              <a:rPr sz="18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Wichita State University, Biology Department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 NSF GK-12 Program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Pass Me The Salt / Pasame La Sal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22200" y="6162840"/>
            <a:ext cx="1820520" cy="529560"/>
            <a:chOff x="322200" y="6162840"/>
            <a:chExt cx="1820520" cy="529560"/>
          </a:xfrm>
        </p:grpSpPr>
        <p:pic>
          <p:nvPicPr>
            <p:cNvPr id="53" name="" descr="thumbnail of small NSF logo in color "/>
            <p:cNvPicPr/>
            <p:nvPr/>
          </p:nvPicPr>
          <p:blipFill>
            <a:blip r:embed="rId6"/>
            <a:stretch/>
          </p:blipFill>
          <p:spPr>
            <a:xfrm>
              <a:off x="746640" y="6162840"/>
              <a:ext cx="397800" cy="52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Black and White WSU Logo"/>
            <p:cNvPicPr/>
            <p:nvPr/>
          </p:nvPicPr>
          <p:blipFill>
            <a:blip r:embed="rId7"/>
            <a:stretch/>
          </p:blipFill>
          <p:spPr>
            <a:xfrm>
              <a:off x="1144800" y="6162840"/>
              <a:ext cx="499680" cy="52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Nhsin.jpg (31396 bytes)"/>
            <p:cNvPicPr/>
            <p:nvPr/>
          </p:nvPicPr>
          <p:blipFill>
            <a:blip r:embed="rId8"/>
            <a:stretch/>
          </p:blipFill>
          <p:spPr>
            <a:xfrm>
              <a:off x="322200" y="6162840"/>
              <a:ext cx="370800" cy="52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logo_300_RGB.jpg"/>
            <p:cNvPicPr/>
            <p:nvPr/>
          </p:nvPicPr>
          <p:blipFill>
            <a:blip r:embed="rId9"/>
            <a:stretch/>
          </p:blipFill>
          <p:spPr>
            <a:xfrm>
              <a:off x="1675080" y="6162840"/>
              <a:ext cx="467640" cy="529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"/>
          <p:cNvSpPr/>
          <p:nvPr/>
        </p:nvSpPr>
        <p:spPr>
          <a:xfrm>
            <a:off x="2184480" y="5916600"/>
            <a:ext cx="2311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NEXT MEETING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Thursday, September 28th 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after school at 3:20 p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Room: F 308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3840" y="5048280"/>
            <a:ext cx="452448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SPONS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Mrs. Hannah Kelderman, Science Teach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Mr. Bill Welch, Science Teac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Mr. Scott Ross, Science Teacher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Mrs. Ingrid Rocio Caton, GK-12 Fellow/WSU Graduate Student 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irsantospinzon@wichita.edu</a:t>
            </a:r>
            <a:br>
              <a:rPr sz="10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3600" y="3505320"/>
            <a:ext cx="4478400" cy="3263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0"/>
          <a:stretch/>
        </p:blipFill>
        <p:spPr>
          <a:xfrm>
            <a:off x="169920" y="3581280"/>
            <a:ext cx="1441440" cy="11383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013440" y="165240"/>
            <a:ext cx="3111480" cy="16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elcome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iology Research Club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orth High School</a:t>
            </a:r>
            <a:br>
              <a:rPr sz="18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Wichita State University, Biology Department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 NSF GK-12 Program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Pass Me The Salt / Pasame La Sal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4875120" y="2822400"/>
            <a:ext cx="1820520" cy="529920"/>
            <a:chOff x="4875120" y="2822400"/>
            <a:chExt cx="1820520" cy="529920"/>
          </a:xfrm>
        </p:grpSpPr>
        <p:pic>
          <p:nvPicPr>
            <p:cNvPr id="63" name="" descr="thumbnail of small NSF logo in color "/>
            <p:cNvPicPr/>
            <p:nvPr/>
          </p:nvPicPr>
          <p:blipFill>
            <a:blip r:embed="rId11"/>
            <a:stretch/>
          </p:blipFill>
          <p:spPr>
            <a:xfrm>
              <a:off x="5299560" y="2822400"/>
              <a:ext cx="397800" cy="52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Black and White WSU Logo"/>
            <p:cNvPicPr/>
            <p:nvPr/>
          </p:nvPicPr>
          <p:blipFill>
            <a:blip r:embed="rId12"/>
            <a:stretch/>
          </p:blipFill>
          <p:spPr>
            <a:xfrm>
              <a:off x="5697720" y="2822400"/>
              <a:ext cx="499680" cy="52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Nhsin.jpg (31396 bytes)"/>
            <p:cNvPicPr/>
            <p:nvPr/>
          </p:nvPicPr>
          <p:blipFill>
            <a:blip r:embed="rId13"/>
            <a:stretch/>
          </p:blipFill>
          <p:spPr>
            <a:xfrm>
              <a:off x="4875120" y="2822400"/>
              <a:ext cx="370800" cy="52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logo_300_RGB.jpg"/>
            <p:cNvPicPr/>
            <p:nvPr/>
          </p:nvPicPr>
          <p:blipFill>
            <a:blip r:embed="rId14"/>
            <a:stretch/>
          </p:blipFill>
          <p:spPr>
            <a:xfrm>
              <a:off x="6228000" y="2822400"/>
              <a:ext cx="467640" cy="52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" name=""/>
          <p:cNvSpPr/>
          <p:nvPr/>
        </p:nvSpPr>
        <p:spPr>
          <a:xfrm>
            <a:off x="6737400" y="2576520"/>
            <a:ext cx="2311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NEXT MEETING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Thursday, September 28th 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after school at 3:20 p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Room: F 308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76760" y="1708200"/>
            <a:ext cx="452448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SPONS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Mrs. Hannah Kelderman, Science Teacher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Mr. Bill Welch,  Science Teac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Mr. Scott Ross, Science Teacher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Mrs. Ingrid Rocio Caton, GK-12 Fellow/WSU Graduate Student 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irsantospinzon@wichita.edu</a:t>
            </a:r>
            <a:br>
              <a:rPr sz="10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46520" y="165240"/>
            <a:ext cx="4478400" cy="3263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5"/>
          <a:stretch/>
        </p:blipFill>
        <p:spPr>
          <a:xfrm>
            <a:off x="4722840" y="241200"/>
            <a:ext cx="1441440" cy="12146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013440" y="3503520"/>
            <a:ext cx="3111480" cy="16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elcome!!!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iology Research Club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orth High School</a:t>
            </a:r>
            <a:br>
              <a:rPr sz="18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Wichita State University, Biology Department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 NSF GK-12 Program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Pass Me The Salt / Pasame La Sal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4875120" y="6162840"/>
            <a:ext cx="1820520" cy="529560"/>
            <a:chOff x="4875120" y="6162840"/>
            <a:chExt cx="1820520" cy="529560"/>
          </a:xfrm>
        </p:grpSpPr>
        <p:pic>
          <p:nvPicPr>
            <p:cNvPr id="73" name="" descr="thumbnail of small NSF logo in color "/>
            <p:cNvPicPr/>
            <p:nvPr/>
          </p:nvPicPr>
          <p:blipFill>
            <a:blip r:embed="rId16"/>
            <a:stretch/>
          </p:blipFill>
          <p:spPr>
            <a:xfrm>
              <a:off x="5299560" y="6162840"/>
              <a:ext cx="397800" cy="52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Black and White WSU Logo"/>
            <p:cNvPicPr/>
            <p:nvPr/>
          </p:nvPicPr>
          <p:blipFill>
            <a:blip r:embed="rId17"/>
            <a:stretch/>
          </p:blipFill>
          <p:spPr>
            <a:xfrm>
              <a:off x="5697720" y="6162840"/>
              <a:ext cx="499680" cy="52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Nhsin.jpg (31396 bytes)"/>
            <p:cNvPicPr/>
            <p:nvPr/>
          </p:nvPicPr>
          <p:blipFill>
            <a:blip r:embed="rId18"/>
            <a:stretch/>
          </p:blipFill>
          <p:spPr>
            <a:xfrm>
              <a:off x="4875120" y="6162840"/>
              <a:ext cx="370800" cy="52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logo_300_RGB.jpg"/>
            <p:cNvPicPr/>
            <p:nvPr/>
          </p:nvPicPr>
          <p:blipFill>
            <a:blip r:embed="rId19"/>
            <a:stretch/>
          </p:blipFill>
          <p:spPr>
            <a:xfrm>
              <a:off x="6228000" y="6162840"/>
              <a:ext cx="467640" cy="529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" name=""/>
          <p:cNvSpPr/>
          <p:nvPr/>
        </p:nvSpPr>
        <p:spPr>
          <a:xfrm>
            <a:off x="6737400" y="5915160"/>
            <a:ext cx="2311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NEXT MEETING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Thursday, September 28th 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after school at 3:20 p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Room: F 308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76760" y="5048280"/>
            <a:ext cx="452448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SPONS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Mrs. Hannah Kelderman, Science Teacher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Mr. Bill Welch, Science Teac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Mr. Scott Ross, Science Teacher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Mrs. Ingrid Rocio Caton, GK-12 Fellow/WSU Graduate Student 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irsantospinzon@wichita.edu</a:t>
            </a:r>
            <a:br>
              <a:rPr sz="10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46520" y="3503520"/>
            <a:ext cx="4478400" cy="3264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0"/>
          <a:stretch/>
        </p:blipFill>
        <p:spPr>
          <a:xfrm>
            <a:off x="4722840" y="3579840"/>
            <a:ext cx="144144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16:27:33Z</dcterms:created>
  <dc:creator>Marks Lab</dc:creator>
  <dc:description/>
  <dc:language>en-US</dc:language>
  <cp:lastModifiedBy>Marks Lab</cp:lastModifiedBy>
  <dcterms:modified xsi:type="dcterms:W3CDTF">2006-09-21T18:12:30Z</dcterms:modified>
  <cp:revision>6</cp:revision>
  <dc:subject/>
  <dc:title>Welcome  Biology Research Club North High School  pass me the salt GK-12 program     </dc:title>
</cp:coreProperties>
</file>